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75D63-6FDD-41B0-B8BF-4B3A6F3A7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64B98-2A02-4335-B9A5-4E10596B8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17EE8-928F-4427-8617-724508B28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B6D44-2897-4ADF-BA7D-04313C49E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CBD2A5-D8EE-4E56-BCFB-75EBD13BD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539BD-BAA2-4BC3-A3B1-F5298F3C7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8BBBD-EFE2-46C6-9BE1-EBF549887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BDA5A-B754-4342-8425-8F2E7A122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35BDB-0189-4F5D-B930-26D82338F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8D2F1-F352-4FFD-93D3-A10B0FFFC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5100A-5044-4C1B-A9DC-79E3AC72F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6F3F4-4582-484F-98DF-551A0857A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BBD1F-9F4D-454D-B525-730F98AEC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9DB58-4EFC-4761-B9F8-48A8B7C97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7A05A-52A2-4E08-9583-DBC9418F4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D3823-01AC-4FC4-9EEF-14F21BB39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79F69-21AC-408C-AFB7-7073676324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EB32A4-6949-4933-B0E1-04FC2D96FE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61F780-A857-4EE2-885A-33F88E3C3A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9E7687-8D37-41EF-9459-201DADB7E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163DD-DD58-41FE-8A41-81892293D3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AAF6FB-1976-4560-970A-AD77290860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17462-9C97-4879-8F14-026687E28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3571A1-4B10-4086-AACD-4F80543328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928BA5-6281-48C3-BA10-70BA0B47C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3BE7BF-B34E-427C-AA43-FF5BC49869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38574C-1971-41DE-9BA3-68FE3BDD92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934DE3-68B5-4DC8-A3D8-1CF8774B25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EFF634-B2DD-478E-88E6-DD3DAE9690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547A0B-3EBF-44FF-B147-16417B1879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519E70-AF3D-48C6-82E7-809E6726D6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EA78FD-89A4-4EAA-8682-C221117DB1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109EBC-5678-4EBA-9580-D6BB0F68C1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8CA89-D8FF-4508-B86D-9A2549A99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182CC7-FB43-4BF9-9515-C8DCB32FC5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4186D4-9788-4A19-989C-9A485A2372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6C0671-CD43-4EF6-9D13-0956C321A9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CCC34D-6B4D-40CE-8025-9C74EA99C1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42004D-0089-4D5C-8DE0-E5C4BFD02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E0048-299C-4706-96E8-8DCD9C86B2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F16C30-4ABD-4ABC-AA57-99D688AE16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991BFF-48FA-46C5-BDE8-94D6FDBF3B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A73DE6-41A1-4796-943D-635C960361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4636C2-57D4-4986-A5E6-B5DB76B8F1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1A1CF-B6C4-4731-8F09-A00AED7B6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59FEED-D615-4C02-AD0C-7F9B262B5F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DE1644-D061-48C9-864A-61ACDCB06B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4FB3E1-5076-417D-8CE7-10307E6421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E407AD-AE6B-4A9D-A7E7-C5FED72FFC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BB4EF3-EED5-4741-99B4-C6BA1BDA41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EC510E-CDF4-440D-A986-5BCC73025B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07B652-85E5-440B-86E8-EDD0AEAB74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763723-56F6-4939-A85A-5C1290C855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2EFE22-5159-4D3B-BDE6-99E079A995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8A4D51-604E-4F34-9887-AB487A7FD8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5A3A7-25DE-438F-B297-788B23924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A2E535-B12B-4DA1-A93E-4195599501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252D57-6E8E-4E73-9782-627F4F3DB7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34847B-F2B5-4848-B749-D2A710DFA2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39B423-356B-4D99-A8DB-A2EB6F1B27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C59FD3-A112-4167-B2EA-C9D8BBA49C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E4FD61-2FBF-423A-AEB8-F1A041A6D0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21EE57-4DE7-4BB1-808E-D0A86C7EEF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B4A8D3-3EC1-449A-BCDE-09D7840B26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153E8E-7466-40C8-A73A-BC1B1C741C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40D334-00F6-4AD1-A612-2CE382C41F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D7620-C6FE-4C21-B363-D261096FA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7F5487-8ADC-4070-A409-A4BCC1D7D7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68A35D-B035-462E-9FA4-B887449895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3287FF-5B5D-4263-AEC7-C09391EE81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4B1E41-FC53-4B71-AABC-50676A6C07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2ED6A3-05E0-4ED6-A22B-B5CC557834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26985D-1E49-45F8-8C09-CF3FFA7918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2D7490-C725-4CE6-BC66-9B3A588C08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003EFB-9BED-4932-A99A-256F9F7E24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90A67A-202D-4863-BD18-2AD737AB32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C9BBE9-D0CF-455C-84C5-562FC435E7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AB6DE-27D0-4556-954B-DC8AA91CB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63F84D-2939-4D71-9309-DC4B76FB79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C38EFB-139F-49F5-B280-AAAA8911E7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AB6F94-F71E-41CD-ADC1-57F2ADFC06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B13E57-E902-4670-9FEC-F9A0FD66B9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4A3B21-4C93-4F26-A4FA-4C46592041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4052A-0A28-4134-84B3-16B6725A3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8343-CFB5-45F5-8397-258B2D21866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6493-4293-48BB-80F0-A3A1DDEE1DA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6FB3-DF53-4D56-8CC2-AA15DA79F58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0979-B5AC-440A-A13A-272F8CDB035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1E76-3FCD-4513-8841-E65C206AA38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7847-2B60-4416-AF9C-7A775D72C46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0D4E-B43D-4C11-9AFB-96798821493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47560" y="990360"/>
            <a:ext cx="7407000" cy="14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572314"/>
                </a:solidFill>
                <a:latin typeface="Gill Sans MT"/>
              </a:rPr>
              <a:t>Case 2</a:t>
            </a:r>
            <a:endParaRPr b="0" lang="en-US" sz="7200" spc="-1" strike="noStrike">
              <a:solidFill>
                <a:srgbClr val="572314"/>
              </a:solidFill>
              <a:latin typeface="Gill Sans MT"/>
            </a:endParaRPr>
          </a:p>
        </p:txBody>
      </p:sp>
      <p:sp>
        <p:nvSpPr>
          <p:cNvPr id="319" name="PlaceHolder 2"/>
          <p:cNvSpPr>
            <a:spLocks noGrp="1"/>
          </p:cNvSpPr>
          <p:nvPr>
            <p:ph type="subTitle"/>
          </p:nvPr>
        </p:nvSpPr>
        <p:spPr>
          <a:xfrm>
            <a:off x="1447560" y="3429000"/>
            <a:ext cx="7407000" cy="17524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able 24</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Laura Butz, Natalie King</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Chris Minning, Fred Roepck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3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plain the source and distribution of the patient’s pain.</a:t>
            </a:r>
            <a:endParaRPr b="0" lang="en-US" sz="3200" spc="-1" strike="noStrike">
              <a:solidFill>
                <a:srgbClr val="000000"/>
              </a:solidFill>
              <a:latin typeface="Gill Sans MT"/>
            </a:endParaRPr>
          </a:p>
          <a:p>
            <a:pPr lvl="1" marL="743040" indent="-285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fection from organ or contents of organ (gastric juice, pancreatic enzymes, etc.) have entered lesser sac causing the transition from acute to diffuse pain in the epigastric and left hypochondriac region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338"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is significant about the pain in his shoulder?</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superior boundary of the lesser sac is the diaphragm.  The phrenic nerves are carrying the sensory information via C3, C4, and C5.  The neurons at spinal cord levels C3 and C4 also receive sensation from the shoulder via supraclavicular nerves.  Thus pain arising from the diaphragm often may be referred to the shoulder.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ptic Ulcer Disease</a:t>
            </a: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ptic ulcer disease (PUD) is one of the most common diseases affecting the GI tract. </a:t>
            </a:r>
            <a:endParaRPr b="0" lang="en-US" sz="32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diagnosis can be difficult because it has a wide spectrum of clinical presentations, ranging from asymptomatic to vague epigastric pain, nausea, and iron-deficiency anemia to acute life-threatening hemorrhage. </a:t>
            </a:r>
            <a:endParaRPr b="0" lang="en-US" sz="32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ptic Ulcer Disease</a:t>
            </a: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anchor="t">
            <a:normAutofit fontScale="99000"/>
          </a:bodyPr>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major causative factor (60% of gastric and 90% of duodenal ulcers) is chronic inflammation due to Helicobachter pylori. The bacterium can cause a chronic active gastritis, resulting in increased gastrin secretion. Gastrin, in turn, stimulates the production of gastric acid by parietal cells. The acid erodes the mucosa and causes the ulcer.</a:t>
            </a:r>
            <a:endParaRPr b="0" lang="en-US" sz="2800" spc="-1" strike="noStrike">
              <a:solidFill>
                <a:srgbClr val="000000"/>
              </a:solidFill>
              <a:latin typeface="Gill Sans MT"/>
            </a:endParaRPr>
          </a:p>
          <a:p>
            <a:pPr marL="361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n estimated 60% of Americans older than 60 years harbor </a:t>
            </a:r>
            <a:r>
              <a:rPr b="0" i="1" lang="en-US" sz="2800" spc="-1" strike="noStrike">
                <a:solidFill>
                  <a:srgbClr val="000000"/>
                </a:solidFill>
                <a:latin typeface="Gill Sans MT"/>
              </a:rPr>
              <a:t>H pylori</a:t>
            </a: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ptic Ulcer Disease</a:t>
            </a: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mplication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foration</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astric and duodenal content leaks into the peritoneum</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netration</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n ulcer can go through the muscular wall of the stomach or duodenum and continue into an adjacent organ, such as the liver or pancreas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leeding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miting bright red blood or reddish brown clumps of partially digested blood that look like coffee grounds and passing black or obviously bloody stools can be symptoms of a bleeding ulcer.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ptic Ulcer Disease</a:t>
            </a:r>
            <a:endParaRPr b="0" lang="en-US" sz="4300" spc="-1" strike="noStrike">
              <a:solidFill>
                <a:srgbClr val="572314"/>
              </a:solidFill>
              <a:latin typeface="Gill Sans MT"/>
            </a:endParaRPr>
          </a:p>
        </p:txBody>
      </p:sp>
      <p:sp>
        <p:nvSpPr>
          <p:cNvPr id="346"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in with radiation to the back is suggestive of a posterior penetrating gastric ulcer complicated by pancreatitis. </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ancreas</a:t>
            </a:r>
            <a:endParaRPr b="0" lang="en-US" sz="4300" spc="-1" strike="noStrike">
              <a:solidFill>
                <a:srgbClr val="572314"/>
              </a:solidFill>
              <a:latin typeface="Gill Sans MT"/>
            </a:endParaRPr>
          </a:p>
        </p:txBody>
      </p:sp>
      <p:sp>
        <p:nvSpPr>
          <p:cNvPr id="348" name=""/>
          <p:cNvSpPr txBox="1"/>
          <p:nvPr/>
        </p:nvSpPr>
        <p:spPr>
          <a:xfrm>
            <a:off x="527688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duces digestive juices and hormones, including insulin</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ile duct joins main pancreatic duct before emptying into duodenum</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49" name="Picture 2" descr="image"/>
          <p:cNvPicPr/>
          <p:nvPr/>
        </p:nvPicPr>
        <p:blipFill>
          <a:blip r:embed="rId1"/>
          <a:stretch/>
        </p:blipFill>
        <p:spPr>
          <a:xfrm>
            <a:off x="1066680" y="1981080"/>
            <a:ext cx="3886200" cy="4064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ancreatitis</a:t>
            </a:r>
            <a:endParaRPr b="0" lang="en-US" sz="4300" spc="-1" strike="noStrike">
              <a:solidFill>
                <a:srgbClr val="572314"/>
              </a:solidFill>
              <a:latin typeface="Gill Sans MT"/>
            </a:endParaRPr>
          </a:p>
        </p:txBody>
      </p:sp>
      <p:sp>
        <p:nvSpPr>
          <p:cNvPr id="351"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Digestive enzymes become active within the gland and attack the pancreas</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udden, constant pain in upper abdomen – tenderness with guarding</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ain often relieved by bending forward</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Nausea, vomiting, fever, tachycardia, tachypnea, hypotension, </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ernal bleeding can occur in severe cases</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Mild jaundice </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Diminished or absent bowel sounds </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evere cases may have a Grey Turner sign or Cullen sign, bluish discoloration caused by retroperitoneal leak of blood from pancreas in hemorrhagic pancreatitis</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itonitis</a:t>
            </a: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flammation of the peritoneum</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ymptoms:</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bdominal guarding</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vement makes pain worse</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bound tenderness</a:t>
            </a:r>
            <a:endParaRPr b="0" lang="en-US" sz="2400" spc="-1" strike="noStrike">
              <a:solidFill>
                <a:srgbClr val="000000"/>
              </a:solidFill>
              <a:latin typeface="Gill Sans MT"/>
            </a:endParaRPr>
          </a:p>
          <a:p>
            <a:pPr lvl="1" marL="6397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ould rebound tenderness be present in peritonitis of the lesser sac?</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eatment</a:t>
            </a:r>
            <a:endParaRPr b="0" lang="en-US" sz="4300" spc="-1" strike="noStrike">
              <a:solidFill>
                <a:srgbClr val="572314"/>
              </a:solidFill>
              <a:latin typeface="Gill Sans MT"/>
            </a:endParaRPr>
          </a:p>
        </p:txBody>
      </p:sp>
      <p:sp>
        <p:nvSpPr>
          <p:cNvPr id="355"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r Peptic Ulcer Disease</a:t>
            </a:r>
            <a:endParaRPr b="0" lang="en-US" sz="3200" spc="-1" strike="noStrike">
              <a:solidFill>
                <a:srgbClr val="000000"/>
              </a:solidFill>
              <a:latin typeface="Gill Sans MT"/>
            </a:endParaRPr>
          </a:p>
          <a:p>
            <a:pPr lvl="1" marL="727920" indent="-280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ecause infection with H. pylori bacteria is a major cause of ulcers, antibiotics are often used. </a:t>
            </a:r>
            <a:endParaRPr b="0" lang="en-US" sz="2400" spc="-1" strike="noStrike">
              <a:solidFill>
                <a:srgbClr val="000000"/>
              </a:solidFill>
              <a:latin typeface="Gill Sans MT"/>
            </a:endParaRPr>
          </a:p>
          <a:p>
            <a:pPr lvl="1" marL="727920" indent="-280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ometimes bismuth subsalicylate is used in combination with antibiotics. </a:t>
            </a:r>
            <a:endParaRPr b="0" lang="en-US" sz="2400" spc="-1" strike="noStrike">
              <a:solidFill>
                <a:srgbClr val="000000"/>
              </a:solidFill>
              <a:latin typeface="Gill Sans MT"/>
            </a:endParaRPr>
          </a:p>
          <a:p>
            <a:pPr lvl="1" marL="727920" indent="-280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utralizing or reducing stomach acid by taking drugs that directly inhibit the stomach's production of acid promotes healing regardless of cause. </a:t>
            </a:r>
            <a:endParaRPr b="0" lang="en-US" sz="2400" spc="-1" strike="noStrike">
              <a:solidFill>
                <a:srgbClr val="000000"/>
              </a:solidFill>
              <a:latin typeface="Gill Sans MT"/>
            </a:endParaRPr>
          </a:p>
          <a:p>
            <a:pPr lvl="1" marL="727920" indent="-280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foration requires immediate laproscopic surgery to repair the hole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609480" y="456840"/>
            <a:ext cx="8229600" cy="5668920"/>
          </a:xfrm>
          <a:prstGeom prst="rect">
            <a:avLst/>
          </a:prstGeom>
          <a:noFill/>
          <a:ln w="0">
            <a:noFill/>
          </a:ln>
        </p:spPr>
        <p:txBody>
          <a:bodyPr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62 year-old white male in ER – appears apprehensive and uncomfortable, body bent forward </a:t>
            </a:r>
            <a:endParaRPr b="0" lang="en-US" sz="27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istory </a:t>
            </a:r>
            <a:endParaRPr b="0" lang="en-US" sz="27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tting after lunch, sharp (“stabbing”) pain in abdomen</a:t>
            </a:r>
            <a:endParaRPr b="0" lang="en-US" sz="24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egan RU quadrant, spread over LU quadrant and around to back</a:t>
            </a:r>
            <a:endParaRPr b="0" lang="en-US" sz="24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ain was intense for a few hours, now ache that has spread all along left side of abdomen</a:t>
            </a:r>
            <a:endParaRPr b="0" lang="en-US" sz="24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tion makes pain worse</a:t>
            </a:r>
            <a:endParaRPr b="0" lang="en-US" sz="24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ain in left shoulder  </a:t>
            </a:r>
            <a:endParaRPr b="0" lang="en-US" sz="24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o history of previous abdominal pain, heart or lung disease  </a:t>
            </a:r>
            <a:endParaRPr b="0" lang="en-US" sz="24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ot taking medication, drinks a beer 2 to 3 nights/week </a:t>
            </a:r>
            <a:endParaRPr b="0" lang="en-US" sz="2400" spc="-1" strike="noStrike">
              <a:solidFill>
                <a:srgbClr val="000000"/>
              </a:solidFill>
              <a:latin typeface="Gill Sans MT"/>
            </a:endParaRPr>
          </a:p>
          <a:p>
            <a:pPr lvl="1" marL="594720" indent="-21996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e has felt nauseous all day and vomited right after the pain struck – “It looked like I vomited coffee grounds.”</a:t>
            </a:r>
            <a:endParaRPr b="0" lang="en-US" sz="24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Vital Signs</a:t>
            </a:r>
            <a:endParaRPr b="0" lang="en-US" sz="43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anchor="t">
            <a:normAutofit fontScale="96000"/>
          </a:bodyPr>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Blood pressure</a:t>
            </a:r>
            <a:endParaRPr b="0" lang="en-US" sz="3000" spc="-1" strike="noStrike">
              <a:solidFill>
                <a:srgbClr val="000000"/>
              </a:solidFill>
              <a:latin typeface="Gill Sans MT"/>
            </a:endParaRPr>
          </a:p>
          <a:p>
            <a:pPr lvl="1" marL="613800" indent="-2268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ying supine: 135/80 left arm and 135/75 right arm</a:t>
            </a:r>
            <a:endParaRPr b="0" lang="en-US" sz="2600" spc="-1" strike="noStrike">
              <a:solidFill>
                <a:srgbClr val="000000"/>
              </a:solidFill>
              <a:latin typeface="Gill Sans MT"/>
            </a:endParaRPr>
          </a:p>
          <a:p>
            <a:pPr lvl="1" marL="613800" indent="-2268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tanding: 130/75 left arm and 130/70 right arm</a:t>
            </a:r>
            <a:endParaRPr b="0" lang="en-US" sz="26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ulse: 95bpm</a:t>
            </a:r>
            <a:endParaRPr b="0" lang="en-US" sz="30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Rhythm: Regular</a:t>
            </a:r>
            <a:endParaRPr b="0" lang="en-US" sz="30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Temperature: 100.5</a:t>
            </a:r>
            <a:r>
              <a:rPr b="0" lang="en-US" sz="3000" spc="-1" strike="noStrike" baseline="30000">
                <a:solidFill>
                  <a:srgbClr val="000000"/>
                </a:solidFill>
                <a:latin typeface="Gill Sans MT"/>
              </a:rPr>
              <a:t>o</a:t>
            </a:r>
            <a:r>
              <a:rPr b="0" lang="en-US" sz="3000" spc="-1" strike="noStrike">
                <a:solidFill>
                  <a:srgbClr val="000000"/>
                </a:solidFill>
                <a:latin typeface="Gill Sans MT"/>
              </a:rPr>
              <a:t>F</a:t>
            </a:r>
            <a:endParaRPr b="0" lang="en-US" sz="30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Respiratory rate: 22 breaths/min</a:t>
            </a:r>
            <a:endParaRPr b="0" lang="en-US" sz="30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Height: 5’10”</a:t>
            </a:r>
            <a:endParaRPr b="0" lang="en-US" sz="30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Weight: 210 lbs.</a:t>
            </a:r>
            <a:endParaRPr b="0" lang="en-US" sz="30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BMI 30.1</a:t>
            </a:r>
            <a:endParaRPr b="0" lang="en-US" sz="30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hysical Exam</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Abdomen</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uscultation reveals hypoactive bowel sounds</a:t>
            </a:r>
            <a:endParaRPr b="0" lang="en-US" sz="26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Guarding of anterolateral abdominal wall,  but no rebound tenderness</a:t>
            </a:r>
            <a:endParaRPr b="0" lang="en-US" sz="26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pigastric and left hypochondriac regions are tender to deep palpation</a:t>
            </a:r>
            <a:endParaRPr b="0" lang="en-US" sz="26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Musculoskeletal – left shoulder</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ctive and passive movements of left arm and isometric tests of left arm movements involving shoulder acromioclavicular and sternoclavicular joints all normal and do not produce change in left shoulder pai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7499520" cy="48006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is guarding of the anterior abdominal wall?</a:t>
            </a:r>
            <a:endParaRPr b="0" lang="en-US" sz="2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ensing of the abdominal wall muscles to guard inflamed organs within the abdomen from the pain of pressure upon them. The tensing is detected when the abdomen wall is pressed. </a:t>
            </a: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is rebound tenderness</a:t>
            </a:r>
            <a:endParaRPr b="0" lang="en-US" sz="2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sensation of pain felt when pressure is suddenly removed</a:t>
            </a:r>
            <a:endParaRPr b="0" lang="en-US" sz="24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presents aggravation of the parietal layer of peritoneum</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26">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is the significance of “coffee grounds” in the vomitus?</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ematemesis: vomiting of blood</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miting of red blood or coffee ground material indicates upper GI bleed</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miting of coffee-ground material results from upper GI bleed that has slowed or stopped – conversion of red Hb to brown hematin by gastric acid</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28">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8">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330"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organs are considered part of the upper GI tract?</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sophagus, stomach, duodenum</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could cause these organs to bleed?</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sophageal varices, peptic ulcer disease/perforation, tumors of the esophagus and stomach, gastritis, gastroenteritis, esophagiti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33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332" name=""/>
          <p:cNvSpPr txBox="1"/>
          <p:nvPr/>
        </p:nvSpPr>
        <p:spPr>
          <a:xfrm>
            <a:off x="1371600" y="1218960"/>
            <a:ext cx="7499520" cy="4800600"/>
          </a:xfrm>
          <a:prstGeom prst="rect">
            <a:avLst/>
          </a:prstGeom>
          <a:noFill/>
          <a:ln w="0">
            <a:noFill/>
          </a:ln>
        </p:spPr>
        <p:txBody>
          <a:bodyPr anchor="t">
            <a:normAutofit fontScale="87000"/>
          </a:bodyPr>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ich structures are located in the RUQ?</a:t>
            </a:r>
            <a:endParaRPr b="0" lang="en-US" sz="32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ver, gall bladder, hepatic flexure of large intestine, pylorus of stomach, duodenum</a:t>
            </a:r>
            <a:endParaRPr b="0" lang="en-US" sz="28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ich structures are located in the LUQ?</a:t>
            </a:r>
            <a:endParaRPr b="0" lang="en-US" sz="32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pleen, pancreas, stomach, esophagus and sphincter, splenic flexure of large intestine</a:t>
            </a:r>
            <a:endParaRPr b="0" lang="en-US" sz="28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one of these organs were infected or perforated, where would the infection or fluids go?</a:t>
            </a:r>
            <a:endParaRPr b="0" lang="en-US" sz="32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334"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are the boundaries of the lesser sac?</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igaments: hepatoduodenal, hepatogastric</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osterior to these ligaments, posterior to stomach, anterior to posterior wall and pancreas, inferior to diaphragm</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ferior recess within gastrocolic ligament of greater omentum</a:t>
            </a: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reater sac?</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osterior to anterior abdominal wall, anterior to stomach and greater omentum, inferior to diaphragm</a:t>
            </a: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34">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34">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05:39:24Z</dcterms:created>
  <dc:creator>Laura</dc:creator>
  <dc:description/>
  <dc:language>en-US</dc:language>
  <cp:lastModifiedBy>John Pham</cp:lastModifiedBy>
  <dcterms:modified xsi:type="dcterms:W3CDTF">2008-02-27T04:40:12Z</dcterms:modified>
  <cp:revision>61</cp:revision>
  <dc:subject/>
  <dc:title>Slide 1</dc:title>
</cp:coreProperties>
</file>